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012-5377-4768-B9ED-26875186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58A-E22F-4A44-9E85-0F9561AA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303-E82F-4ABC-8842-2F54CE0C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C0A-ED39-45EC-8C0B-8BA82A72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2EAAD-C0F7-4475-917C-645F8AF8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A72AC-F90E-4529-8B4B-6CCD6CE7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526B3-FCC5-4467-8881-415CE41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BF065-AB52-4E18-B811-F39F5AE6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C895F-307C-4687-B6A5-8D5105F9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A3A40-273B-4535-A175-F0A57C47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52339-ED91-4459-B5ED-E1796D70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E70-BDAC-4370-84FC-C5B96B94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2BBED-3528-401B-BC3F-46F8C67C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E72A0-89D2-4A83-A44E-47DFC5A8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5A38F-79FB-450A-8177-79927AE0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9C4B4-6178-47B0-8B73-7A4E047B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3968D-52FC-4951-9EBC-1A7E98FC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CF1-DB49-4BCB-BAFD-DFF08306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A20-DB13-44FD-BF43-F12E2394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2AA-E76F-4BFA-AF03-1E1B056E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951-C2C9-4217-953B-09434DB3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A2E-B56B-42CA-A27B-5A6186B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F81-3232-41C0-AB4C-124B1A45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C5D-665D-4B60-B84F-CBF8B88E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3BC6-87AD-44FB-A713-76547DA3C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8B64-95EF-46CA-9C59-8DEA654884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Альберт Гата улы Яхин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методикасы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буенча  әдәбият дәрес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280" y="2924280"/>
            <a:ext cx="806436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Tahoma"/>
              </a:rPr>
              <a:t>Тема:</a:t>
            </a: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3399"/>
                </a:solidFill>
                <a:latin typeface="Tahoma"/>
              </a:rPr>
              <a:t>“</a:t>
            </a:r>
            <a:r>
              <a:rPr b="1" lang="tt-RU" sz="4800" spc="-1" strike="noStrike">
                <a:solidFill>
                  <a:srgbClr val="ff3399"/>
                </a:solidFill>
                <a:latin typeface="Tahoma"/>
              </a:rPr>
              <a:t>Туган илгә мәхәббәт хисе”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66"/>
                </a:solidFill>
                <a:latin typeface="Tahoma"/>
              </a:rPr>
              <a:t>Максатлар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00"/>
                </a:solidFill>
                <a:latin typeface="Tahoma"/>
              </a:rPr>
              <a:t>Сәнгат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ьле с</a:t>
            </a:r>
            <a:r>
              <a:rPr b="1" lang="tt-RU" sz="3600" spc="-1" strike="noStrike">
                <a:solidFill>
                  <a:srgbClr val="ffff00"/>
                </a:solidFill>
                <a:latin typeface="Tahoma"/>
              </a:rPr>
              <a:t>өйләм (нәфис сүз остасы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00"/>
                </a:solidFill>
                <a:latin typeface="Tahoma"/>
              </a:rPr>
              <a:t>Анализ ясау (тәнкыйт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ьче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00"/>
                </a:solidFill>
                <a:latin typeface="Tahoma"/>
              </a:rPr>
              <a:t>Нәтиҗә чыгару (әдәбият галиме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ff33"/>
                </a:solidFill>
                <a:latin typeface="Tahoma"/>
              </a:rPr>
              <a:t>Өй эшен тикшерү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66"/>
                </a:solidFill>
                <a:latin typeface="Tahoma"/>
              </a:rPr>
              <a:t>Хис – ул дөн</a:t>
            </a: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ья </a:t>
            </a:r>
            <a:r>
              <a:rPr b="1" lang="tt-RU" sz="2800" spc="-1" strike="noStrike">
                <a:solidFill>
                  <a:srgbClr val="ff0066"/>
                </a:solidFill>
                <a:latin typeface="Tahoma"/>
              </a:rPr>
              <a:t>вакыйгаларына күңел белән бәя бир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66"/>
                </a:solidFill>
                <a:latin typeface="Tahoma"/>
              </a:rPr>
              <a:t>Хис туу өчен сәбәп кирәк. Хисне тудыручы сәбәп – хиснең эчтәлеге бу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66"/>
                </a:solidFill>
                <a:latin typeface="Tahoma"/>
              </a:rPr>
              <a:t>Хиснең дәрәҗәсе була, шулай ук, юану да хиснең бер сыйфа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66"/>
                </a:solidFill>
                <a:latin typeface="Tahoma"/>
              </a:rPr>
              <a:t>Шатлык, кайгы, ярату, нәфрәт, кимсенү, соклану, мәхәббәт хислә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00"/>
                </a:solidFill>
                <a:latin typeface="Tahoma"/>
              </a:rPr>
              <a:t>Анализлау тәртиб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c600"/>
                </a:solidFill>
                <a:latin typeface="Tahoma"/>
              </a:rPr>
              <a:t>Әсәрләрне өлешләргә бүл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c600"/>
                </a:solidFill>
                <a:latin typeface="Tahoma"/>
              </a:rPr>
              <a:t>Һәр өлешнең эчтәлеген таб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c600"/>
                </a:solidFill>
                <a:latin typeface="Tahoma"/>
              </a:rPr>
              <a:t>Һәр өлешкә анализ яса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Tahoma"/>
              </a:rPr>
              <a:t>I</a:t>
            </a:r>
            <a:r>
              <a:rPr b="1" lang="tt-RU" sz="3600" spc="-1" strike="noStrike">
                <a:solidFill>
                  <a:srgbClr val="00c600"/>
                </a:solidFill>
                <a:latin typeface="Tahoma"/>
              </a:rPr>
              <a:t> һәм</a:t>
            </a:r>
            <a:r>
              <a:rPr b="1" lang="en-US" sz="3600" spc="-1" strike="noStrike">
                <a:solidFill>
                  <a:srgbClr val="00c600"/>
                </a:solidFill>
                <a:latin typeface="Tahoma"/>
              </a:rPr>
              <a:t> II</a:t>
            </a:r>
            <a:r>
              <a:rPr b="1" lang="tt-RU" sz="3600" spc="-1" strike="noStrike">
                <a:solidFill>
                  <a:srgbClr val="00c600"/>
                </a:solidFill>
                <a:latin typeface="Tahoma"/>
              </a:rPr>
              <a:t> өлеш арасындагы бәйләнешне таб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c600"/>
                </a:solidFill>
                <a:latin typeface="Tahoma"/>
              </a:rPr>
              <a:t>Әсәрдәге образларның мәг</a:t>
            </a:r>
            <a:r>
              <a:rPr b="1" lang="ru-RU" sz="3600" spc="-1" strike="noStrike">
                <a:solidFill>
                  <a:srgbClr val="00c600"/>
                </a:solidFill>
                <a:latin typeface="Tahoma"/>
              </a:rPr>
              <a:t>ънәсен таб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шурале 001"/>
          <p:cNvPicPr/>
          <p:nvPr/>
        </p:nvPicPr>
        <p:blipFill>
          <a:blip r:embed="rId1"/>
          <a:stretch/>
        </p:blipFill>
        <p:spPr>
          <a:xfrm>
            <a:off x="468360" y="-3484440"/>
            <a:ext cx="8280360" cy="1053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66"/>
                </a:solidFill>
                <a:latin typeface="Tahoma"/>
              </a:rPr>
              <a:t>Образларның мәг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ънәс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cff33"/>
                </a:solidFill>
                <a:latin typeface="Tahoma"/>
              </a:rPr>
              <a:t>Урман – татарлар һәм болгарлар яшәгән тирә - юн</a:t>
            </a:r>
            <a:r>
              <a:rPr b="1" lang="ru-RU" sz="3600" spc="-1" strike="noStrike">
                <a:solidFill>
                  <a:srgbClr val="ccff33"/>
                </a:solidFill>
                <a:latin typeface="Tahom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cff33"/>
                </a:solidFill>
                <a:latin typeface="Tahoma"/>
              </a:rPr>
              <a:t>Шүрәле – яшәргә комачаулаучы кө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cff33"/>
                </a:solidFill>
                <a:latin typeface="Tahoma"/>
              </a:rPr>
              <a:t>Егет – татар халкы, яки аның бер вәкил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00"/>
                </a:solidFill>
                <a:latin typeface="Tahoma"/>
              </a:rPr>
              <a:t>Образларның мәг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ънәс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Урман – татарлар һәм болгарлар яшәгән мөх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ahoma"/>
              </a:rPr>
              <a:t>Шүрәлеләр, бүреләр – шул мөхиттәге явыз көчлә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tt-RU" sz="3200" spc="-1" strike="noStrike">
                <a:solidFill>
                  <a:srgbClr val="ff0000"/>
                </a:solidFill>
                <a:latin typeface="Tahoma"/>
              </a:rPr>
              <a:t>Аһ! – дисең, без ник болай соң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ahoma"/>
              </a:rPr>
              <a:t>Без дә хакның бәндәсе..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5:49:10Z</dcterms:created>
  <dc:creator>Customer</dc:creator>
  <dc:description/>
  <dc:language>en-US</dc:language>
  <cp:lastModifiedBy>Пользователь</cp:lastModifiedBy>
  <dcterms:modified xsi:type="dcterms:W3CDTF">2011-05-12T16:52:32Z</dcterms:modified>
  <cp:revision>7</cp:revision>
  <dc:subject/>
  <dc:title>Слайд 1</dc:title>
</cp:coreProperties>
</file>